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FEF-325E-4663-B7E9-40261277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3D9D-B35B-4C4F-9F23-F786BBB2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D795-5890-442C-A37B-B0CFA480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7AF-9362-458F-8187-6509CD77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36E-4442-4E76-9998-8B28C834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FAE2-EBF1-4514-8037-AB73B960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88D-E048-4FB0-9CE3-2F0A09AD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951-F0B5-4DBF-A951-ADFA0C01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BB6-B54B-4363-9D8B-5314329A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117-39B7-482A-920E-43B27ACB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962-E38D-46D2-9A89-40D3A0C0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9FC1-0EF9-46A9-9A55-E2CED1D4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0E9A-E51A-4661-BF39-08D3A613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A0E5-9311-4B55-82B9-FC662013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72AF-7D40-4AA1-9281-1982041C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1741-DC87-48E7-97B7-8E42C82E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5DDB-4688-49E4-8F57-842FFD89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B4C-2586-4B8B-8A77-7EE9CC23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99C-F560-4F61-BDDC-10AEDE16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0F63-AAFB-4053-9150-A2D22158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679-2C15-4A2E-9819-EF8E33DF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1CB-4AC1-4263-BD4A-572104C3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9BA1-4BB4-4CE9-9DD5-2B828692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8AE-4492-45D5-9C06-C4652154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6D9-9700-41AE-A69E-20A31F3C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36D-E26C-4651-A1E3-254B6D9B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8084-E581-42BC-87FD-803EA3DD3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5EB4-77BE-405B-97DB-58B41D9A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9FE6-105C-4EE7-ADB9-ADCD9982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0183-F9FD-4250-9C9D-F40695B1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7776-4E4A-433A-83EA-AD6C45D59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133-FF48-4FE2-80F3-62D88DB8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C4B-DA24-4364-B846-735B3311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C595-2E8A-4B6D-AA7D-F12DD85D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275-3528-4C1D-B0DC-7F8449D5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9E95-AA0F-4422-A067-BD07E9E9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2DB-4B67-45A5-9CB8-B6378A68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982-29BE-47E4-98FF-268A151B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FFB-61B8-4D42-8791-331376FA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802-357F-499C-BCFA-880E914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C4A-EBDD-48B6-A578-03A595E4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592-D261-479C-8D33-84C84670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2F4-F577-4C2F-B0BF-670C0639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BFB-FD05-4D85-BD39-2541A86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CBB-2B74-4EBC-9B4F-2F9186D2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9B9-5E7C-4D01-8BF3-A88A4FE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3D5-71C6-429F-B900-57A3BC6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8E2-91DF-4AC2-9096-2EAC800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407-498A-41A9-92AD-01FDA85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3EA-9677-4B25-9662-73742ABB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4B20-A1D9-4234-9350-9BA301A6F9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800" spc="-1" strike="noStrike">
                <a:solidFill>
                  <a:srgbClr val="003300"/>
                </a:solidFill>
                <a:latin typeface="Garamond"/>
              </a:rPr>
              <a:t>Развој личности, личност и болест</a:t>
            </a:r>
            <a:endParaRPr b="0" lang="en-US" sz="3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Суперего (Над-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Део личности који је настао модификацијом Ега прихватањем родитељских и друштвених утицаја током развој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У овом делу човекове личности је седиште свести, самоконтроле, забрана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моралних норми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осећаја кривиц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овна улога Суперега је да спречава и зауставља импулсе, углавном недозвољене или неприхватљиве, који долазе из Ида и теже да се без одлагања задовољ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клоп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Интеграција биолошких (Ид), психолошких (Его) и друштвених (Суперего) снага личности, које се често сукобљавај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укоби доводе до настанка страха, за које свака особа онда проналаз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одбрамбене механизм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рема теорији С. Фројда, развој сваке личности одвија се кроз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различите психосексуалне етап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у развоју - Фројд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3000"/>
          </a:bodyPr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Ор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Ан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алус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Латенције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Генитал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75480" indent="-3754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Оралн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13880"/>
            <a:ext cx="822960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Прва у процесу сазревања и њоме је обележена </a:t>
            </a: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рва година живот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Уста и процес дој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јесу једини пут којим се доживљава стварност и постиже задовољење нагонских пулзија у виду тактилне стимулациј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Складна понашања и осећања мајке и окружења детета, посебно кроз дојење, условљавају либидинозно задовољство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Уколико се у процесу храњења појаве напетост и страх, задовољење ће бити осујећено и тада може доћи до фиксација и обликовања оралног карактера са израженим цртама као што су: превелика зависност, пасивност, склоност оралним уживањ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Анално-садистичка фа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 краја прве до треће годи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Либидна задовољења су у овој фази повезана са избацивањем и задржавањем фецеса - овладавањ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функцијом сфинктер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поље којим дете манипулише својом околин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Најзначајнији психолошки садржаји: амбивалентност, бисексуалност и обликовање аналног карактер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Карактеристик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аналног карактер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су: конформизам, претерана контрола и уздржаност у животу, претерана уредност, шкртост, тврдоглавост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Фалус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чиње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д треће године и траје до пе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Генитални органи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остају доминанатне ерогене зоне и код дечака и код девојчиц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Осећања напетости и страха празне се гениталним путем, мастурб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ат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Траје </a:t>
            </a: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од шесте године до пубер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Опада снага нагонских пулзија, углавном условљена васпитним утицајим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aramond"/>
              </a:rPr>
              <a:t>Генитални развојни стадијум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Период пубертета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Нагонски импулси, карактеристични за прегенитални период, сједињују се са новонасталим гениталним импулс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25800" indent="-32580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оба се од нарцистичког детета преображава у сексуално усмерену 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социјализовану одраслу особу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која показује сексуалну привлачност, планира своје будуће активности и уз партнерске везе, брак и будућу породиц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Психологија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мплексан систем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сихолошких структура и процеса, односно резултат интеракција између бројних субсисте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 се развија и функционише у непрестаном процес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интеракција са средином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, што је основ за развој и испољавање способности лич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Постоји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континуитет и кохерентност 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личности као целине, кроз све развојне фаз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Континуум у индивидуалном развоју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35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лађа одрасл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редња доб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Личн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Збир свих карактеристика једне особе, која одређује њену јединственост и особеност, по чему се она разликује од свих других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599840"/>
            <a:ext cx="8229600" cy="29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гућности развоја у одраслом добу?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Старење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риродан и неповратан физиолошки процес, који код сваког напредује различитом брзином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азе старењ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азе развоја у стручној литератури: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рим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физиолошко и уобичајено старење, код свих људи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секундарн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(старење под утицајем неке болести, ограничена на поједине људе или груп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c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терцијарна</a:t>
            </a: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 (кратак временски период од неколико недеља до неколико месеци пре смрти, када животне функције нагло и значајно слабе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тарос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Одређено животно раздобље повезано са хронолошким доб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Биолошка и хронолошка старост нису истоветне, него су условљене генотипском и фенотипском индивидуалношћу чове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У целини старачко доба наступа у оном животном периоду када се појаве објективни и субјективни знаци застоја и назадовања на биолошком, психолошком и социјалном плану код једне особ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еорије о развоју одраслих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Многе од теорија које највише помажу у разумевању развоја одраслих су често ограничене на једну тему: 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интелектуалног разво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лично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развоја каријер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теорија породичног животног циклуса 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ројд о различитим животним добим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ројд је предложио да је “отац дете човека” и сматрао је да се већина догађаја у одраслој доби може најбоље објаснити разумевањем искустава из раног детињств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Адолесценциј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бухвата знања о физилошком развоју младих измеђ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12. и 26. године живо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одступања од истог, као и начин на који се таква одступања леч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ериод живота од детињства до зрелог, одраслог доб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сензибилни период живота у развоју сваке особе се битно издваја од периода детињства с једне стране и одраслог доба с друге стран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Зависи од организације самог друштва, културе, традиције, трајања школовања, запошљавања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Три фазе адолесценције: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Ра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9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3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агл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с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екундар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них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карактеристик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редњ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тни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стадијум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4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15.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опственог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нов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однос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вршњачк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групама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супротни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лом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експериментисањ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..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Касн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адолесценција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 (16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? </a:t>
            </a: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год</a:t>
            </a:r>
            <a:r>
              <a:rPr b="1" lang="sr-Latn-RS" sz="2400" spc="-1" strike="noStrike">
                <a:solidFill>
                  <a:srgbClr val="c00000"/>
                </a:solidFill>
                <a:latin typeface="Garamond"/>
              </a:rPr>
              <a:t>):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потпу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формиран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нтитет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зрел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деје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4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мишљење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Развојн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карактеристике</a:t>
            </a:r>
            <a:r>
              <a:rPr b="0" lang="sr-Latn-RS" sz="40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4000" spc="-1" strike="noStrike">
                <a:solidFill>
                  <a:srgbClr val="003300"/>
                </a:solidFill>
                <a:latin typeface="Garamond"/>
              </a:rPr>
              <a:t>адолесцената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0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Физичк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Когнитив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лекту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Емоци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Социјално </a:t>
            </a:r>
            <a:r>
              <a:rPr b="0" lang="sr-Latn-RS" sz="32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 интерперсон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3300"/>
                </a:solidFill>
                <a:latin typeface="Garamond"/>
              </a:rPr>
              <a:t>Моралн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Физичк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Секундарне полне карактеристи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Нагли раст, често праћен незграпношћу и трапав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јако самопоуздани (утиче телесни изглед)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Флуктуације између хиперактивности и летаргиј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треба за физичком активношћу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мперамент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Оснивачи модерне психологије личности сагледавају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темепрамен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као један елемент општих карактеристика индивиду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Олпорт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(Allport) је 1937. године дефинисао темперамент као карактеристичну „емоционалну природу“ индивидуе, која укључује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рзину реаговања и типично расположење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Сматрао је да је темперамент заснован на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иолошким законитостима</a:t>
            </a:r>
            <a:r>
              <a:rPr b="0" lang="ru-RU" sz="2600" spc="-1" strike="noStrike">
                <a:solidFill>
                  <a:srgbClr val="003300"/>
                </a:solidFill>
                <a:latin typeface="Garamond"/>
              </a:rPr>
              <a:t> и да је у великој мери наслеђен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Когнитивно - интелекту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9720"/>
            <a:ext cx="822960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пстрактн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ст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ри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нкретно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ичко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ишљ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свес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мокритичн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начајан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муникацијск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ештин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вадљив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нциј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д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буд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праву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азвој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пособ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онош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лу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жељ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слободо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збора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казу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тендецију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ка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новим</a:t>
            </a:r>
            <a:r>
              <a:rPr b="1" lang="sr-Latn-R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интересовањима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, 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лабо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ужег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њ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Емоцион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стају емоционално непредвидиви, сензитивни и склони испади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Рањиви на “емоционалне молбе” и тако лаки за манипулисањ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Појачан капацитет за емпат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ојачан сексуални нагон - сексуално понашање без размишљања о последицам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Garamond"/>
              </a:rPr>
              <a:t>Социјално-интерперсонални развој</a:t>
            </a:r>
            <a:endParaRPr b="0" lang="en-US" sz="40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920" y="1000080"/>
            <a:ext cx="885816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а жеља за припадањем (свесни значаја социјалних веза)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Жеља за независношћу и аутономијом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Помак у зависности од родитеља к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висношћу од вршњак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Способност да критички упореде родитеље са другим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Тражење „дубљих“ пријатељстава заснованих на заједничким интересима и лојалност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294840" indent="-29484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Garamond"/>
              </a:rPr>
              <a:t>Јако изражено интересовање према супротном полу (мада се често осећају уплашено и непријатно пред њима) 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Морални развој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071720"/>
            <a:ext cx="871560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нденци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легализм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кусиран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правила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sr-RS" sz="2600" spc="-1" strike="noStrike">
                <a:solidFill>
                  <a:srgbClr val="c00000"/>
                </a:solidFill>
                <a:latin typeface="Garamond"/>
              </a:rPr>
              <a:t>“правичност”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држав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верењ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родитеља,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ал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чињ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ест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авил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з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етињств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ост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заражени”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едности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опагир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вршњаци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Формир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“личн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“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авест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траж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моралн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ритеријум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кој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њих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имај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а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Јачање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сећај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одговорности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према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друштв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ширем</a:t>
            </a:r>
            <a:r>
              <a:rPr b="0" lang="sr-Latn-RS" sz="26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600" spc="-1" strike="noStrike">
                <a:solidFill>
                  <a:srgbClr val="003300"/>
                </a:solidFill>
                <a:latin typeface="Garamond"/>
              </a:rPr>
              <a:t>смислу</a:t>
            </a:r>
            <a:endParaRPr b="0" lang="en-US" sz="26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Адолесцентна криз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идентитета (конфузија)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аутор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Околина чини (свесне или несвесне) баријере да га прихвати као одраслог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сихосоцијалне претензије адолесцента </a:t>
            </a:r>
            <a:r>
              <a:rPr b="1" lang="en-US" sz="3200" spc="-1" strike="noStrike">
                <a:solidFill>
                  <a:srgbClr val="c00000"/>
                </a:solidFill>
                <a:latin typeface="Garamond"/>
              </a:rPr>
              <a:t>наспрам носиоца норми и забрана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Пасивни/активни отпор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или конфузија идентитета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еиспитивање својих животних циљева и улога у практичној реалној средин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Garamond"/>
              </a:rPr>
              <a:t>Ко сам ја? </a:t>
            </a:r>
            <a:r>
              <a:rPr b="0" i="1" lang="en-US" sz="2800" spc="-1" strike="noStrike">
                <a:solidFill>
                  <a:srgbClr val="003300"/>
                </a:solidFill>
                <a:latin typeface="Garamond"/>
              </a:rPr>
              <a:t>Зашто сам такав? Какав би требало да будем? Зашто се уопште живи?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Прати је анксиозност, збуњеност, агресија, осећање отуђености, усамљености, инфериорности...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Garamond"/>
              </a:rPr>
              <a:t>Лака мета одређеним групама: навијачке, религионзне, друштвено - политичк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Garamond"/>
              </a:rPr>
              <a:t>Криза сексуал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треб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довољење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зразит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јак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г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аго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могућ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реализаци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сле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оцијал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забран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анифестуј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скез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ил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ак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моралном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детериорацијом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У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адолесценцији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ткрив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сексуалн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рјентациј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пасност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од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нежељен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трудноћа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,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олно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преносивих</a:t>
            </a:r>
            <a:r>
              <a:rPr b="0" lang="sr-Latn-RS" sz="2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sr-RS" sz="2800" spc="-1" strike="noStrike">
                <a:solidFill>
                  <a:srgbClr val="003300"/>
                </a:solidFill>
                <a:latin typeface="Garamond"/>
              </a:rPr>
              <a:t>болести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Карактер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Ужи појам од појма личности и подразумева оне аспекте личности који се одређују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 етичким и моралним критеријумим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а испољавају 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оцијалним интеракцијама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(„добар-лош“, „чврст-слаб“ карактер).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руктура карактера представља релативно стабилну и предвидиву организацију и интеграцију низа мотива, ставова, вредности, одбрамбених механизама и начина реаговања у социјалној средини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Ствара се процесом учења у социјалној средин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Теорије личности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Биологистичке теориј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 (С. Фројд) - подразумевају да се енергија за развој личности добија из биолошких потенцијала нагон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Социопсихолош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А. Адлер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A.Adler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К. Хорнај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K. Horney),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Х. С. Саливан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S. Sullivan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енергетске изворе налазе у социјалној природи човека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Персоналистичк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Г. Олпорт) - способност сваког појединца, различитост од других људи, у другом плану социјални фактори и фактори средине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типа или теорије црта личности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Н. Ајзенк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H. Eysenck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-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факторска анализа и математичким моделима којима се бројне црте личности смањују на прихватљиву меру;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Интерперсоналне теорије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(К. Роџерс (</a:t>
            </a:r>
            <a:r>
              <a:rPr b="0" lang="en-GB" sz="2400" spc="-1" strike="noStrike">
                <a:solidFill>
                  <a:srgbClr val="003300"/>
                </a:solidFill>
                <a:latin typeface="Garamond"/>
              </a:rPr>
              <a:t>C. Rogers))</a:t>
            </a:r>
            <a:r>
              <a:rPr b="0" lang="sr-RS" sz="2400" spc="-1" strike="noStrike">
                <a:solidFill>
                  <a:srgbClr val="003300"/>
                </a:solidFill>
                <a:latin typeface="Garamond"/>
              </a:rPr>
              <a:t> –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целовитост личности и односи са другима;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93120" indent="-393120">
              <a:spcBef>
                <a:spcPts val="601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Garamond"/>
              </a:rPr>
              <a:t>Теорије социјалног учења </a:t>
            </a:r>
            <a:r>
              <a:rPr b="0" lang="sr-CS" sz="2400" spc="-1" strike="noStrike">
                <a:solidFill>
                  <a:srgbClr val="003300"/>
                </a:solidFill>
                <a:latin typeface="Garamond"/>
              </a:rPr>
              <a:t>где се развој и понашање личности доводи у везу са оним што особа учи током живота.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00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несвесно, предсвесно и свесн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ва теорија: целокупна активност људи у основи је несвесна и да су несвесни процеси основа људског бић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не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урођених, биолошки датих нагона, потиснутих жеља и сећањ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прим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пред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седиште менталних процеса и опе- рација, као што су способност учења и примена науче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(секундарни процеси)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истем свесног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је део личности код кога је већина операција доступна свес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Сигмунд Фројд (1923)</a:t>
            </a:r>
            <a:br>
              <a:rPr sz="4400"/>
            </a:b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- Ид, Его и Суперего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Касније, развојно структуралну позицију Фројдове теорије личности замењује описно-тополошко гледиште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Представио нову верзију своје теорије у којој су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Ид, Его и Суперего </a:t>
            </a:r>
            <a:r>
              <a:rPr b="0" lang="ru-RU" sz="2800" spc="-1" strike="noStrike">
                <a:solidFill>
                  <a:srgbClr val="003300"/>
                </a:solidFill>
                <a:latin typeface="Garamond"/>
              </a:rPr>
              <a:t>били хипотетичке структуре које леже у основи психолошког функционисања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Ид (Оно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00120"/>
            <a:ext cx="82296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едставља несвесне снаге, дубоко скривене у свак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Те снаге су извор психичке енергије, такозваног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либид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и управља људским животом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Овај део људске личности сачињавају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урођени нагони, сексуалне и агресивне потиснуте жеље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које су изван принципа реалитета и не подлежу законитостима времена, узрочности, лог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роцеси се у оквиру несвесног дела личности одвијају п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у задовољства / незадовољства 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3300"/>
                </a:solidFill>
                <a:latin typeface="Garamond"/>
              </a:rPr>
              <a:t>Его (Ја)</a:t>
            </a:r>
            <a:endParaRPr b="0" lang="en-US" sz="44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Део личности који настаје раслојавањем Ида у контакту са реалношћу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битно одређује индивидуу као личност која опажа, мисли, осећа, има ставове према околном свету и сопственој личности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функционише према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принципима реалитета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, у чијој основи лежи објективно и разложно мишљењ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Его поседује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одбрамбене механизме </a:t>
            </a:r>
            <a:r>
              <a:rPr b="0" lang="ru-RU" sz="2400" spc="-1" strike="noStrike">
                <a:solidFill>
                  <a:srgbClr val="003300"/>
                </a:solidFill>
                <a:latin typeface="Garamond"/>
              </a:rPr>
              <a:t>помоћу којих се бори за опстанак и функционисање под оптималним условима</a:t>
            </a:r>
            <a:endParaRPr b="0" lang="en-US" sz="2400" spc="-1" strike="noStrike">
              <a:solidFill>
                <a:srgbClr val="0033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nmuric91@gmail.com</cp:lastModifiedBy>
  <dcterms:modified xsi:type="dcterms:W3CDTF">2020-10-01T10:31:21Z</dcterms:modified>
  <cp:revision>49</cp:revision>
  <dc:subject/>
  <dc:title>Texto</dc:title>
</cp:coreProperties>
</file>